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gif" ContentType="image/gif"/>
  <Override PartName="/ppt/media/image3.gif" ContentType="image/gif"/>
  <Override PartName="/ppt/media/image7.png" ContentType="image/png"/>
  <Override PartName="/ppt/media/APPLAUSE.WAV" ContentType="audio/x-wav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7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4648320"/>
            <a:ext cx="73915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When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will you play ball with 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407120" cy="403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45720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4419720"/>
            <a:ext cx="716256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I have my duck, </a:t>
            </a:r>
            <a:r>
              <a:rPr b="0" lang="en-US" sz="4800" spc="-1" strike="noStrike">
                <a:solidFill>
                  <a:srgbClr val="6699ff"/>
                </a:solidFill>
                <a:latin typeface="AbcPrint"/>
              </a:rPr>
              <a:t>but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I want my kit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4419720"/>
            <a:ext cx="91440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44840" y="990720"/>
            <a:ext cx="3932280" cy="355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4419720"/>
            <a:ext cx="716256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I have my duck, </a:t>
            </a:r>
            <a:r>
              <a:rPr b="0" lang="en-US" sz="4800" spc="-1" strike="noStrike">
                <a:solidFill>
                  <a:srgbClr val="6699ff"/>
                </a:solidFill>
                <a:latin typeface="AbcPrint"/>
              </a:rPr>
              <a:t>but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I want my kit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449568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44840" y="990720"/>
            <a:ext cx="3932280" cy="355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09680" y="23623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w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wha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cc33"/>
                </a:solidFill>
                <a:latin typeface="AbcPrint"/>
              </a:rPr>
              <a:t>a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bu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wh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what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28800" y="441972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4343400"/>
            <a:ext cx="7086600" cy="228744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I splashed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all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the water out of the tu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343400"/>
            <a:ext cx="685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838080"/>
            <a:ext cx="2859120" cy="34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441972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343400"/>
            <a:ext cx="7086600" cy="228744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I splashed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all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the water out of the tu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4343400"/>
            <a:ext cx="685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8120" y="838080"/>
            <a:ext cx="2859120" cy="34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5105520"/>
            <a:ext cx="708660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 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What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is in this foo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3379680" cy="3187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47920" y="5105520"/>
            <a:ext cx="17524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5105520"/>
            <a:ext cx="708660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 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What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is in this foo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886200" cy="3665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7920" y="5181480"/>
            <a:ext cx="1752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4876920"/>
            <a:ext cx="73915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They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were 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busting the bubbl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4952880"/>
            <a:ext cx="12952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5257800" cy="3471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4876920"/>
            <a:ext cx="73915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They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were 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busting the bubbl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4952880"/>
            <a:ext cx="12952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790560"/>
            <a:ext cx="579132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4648320"/>
            <a:ext cx="73915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When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will you play ball with 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407120" cy="403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400" y="45720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10-06T03:38:04Z</dcterms:modified>
  <cp:revision>14</cp:revision>
  <dc:subject/>
  <dc:title>Guess the Covered Word</dc:title>
</cp:coreProperties>
</file>